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237-B0EB-4524-8AA7-0A7A1A52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D52-59F8-42C8-8796-D50B80BD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152-6933-435E-B279-F7A755CF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892-81CB-491F-93C9-935802F6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CCC-C4AF-4D88-A5E7-31AA59A9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7C6-8A84-437D-B07D-0BF9E5D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E3E-6B7D-478D-BD55-E5309F0F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53A-A7BF-40EF-A83A-37A85CD8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553-632E-45A0-9AA1-8BEA4441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613-1001-462F-85E8-07A2161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E4F-60B1-4988-A070-EC7BF29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A5E-A9E8-43E8-9AC3-595DE85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E109-3C78-4A64-84E3-572DED119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b/Fate-animal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9/Kandinsky_whit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743200" y="990720"/>
            <a:ext cx="39196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Ear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Moder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Ar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752480" y="5334120"/>
            <a:ext cx="601992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orace Greeley HS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029200" y="534960"/>
            <a:ext cx="373392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Henri Matiss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Carmelina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876920" y="3657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armelina"/>
          <p:cNvPicPr/>
          <p:nvPr/>
        </p:nvPicPr>
        <p:blipFill>
          <a:blip r:embed="rId1"/>
          <a:stretch/>
        </p:blipFill>
        <p:spPr>
          <a:xfrm>
            <a:off x="304920" y="304920"/>
            <a:ext cx="431136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5257800" y="4343400"/>
            <a:ext cx="3581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use of intense colors in a violent, and uncontrolled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d Beas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2590920"/>
            <a:ext cx="342900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Henri Matiss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pen Window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Open Window, Collioure"/>
          <p:cNvPicPr/>
          <p:nvPr/>
        </p:nvPicPr>
        <p:blipFill>
          <a:blip r:embed="rId1"/>
          <a:stretch/>
        </p:blipFill>
        <p:spPr>
          <a:xfrm>
            <a:off x="3767040" y="304920"/>
            <a:ext cx="4996080" cy="61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320" y="228600"/>
            <a:ext cx="8991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Violin &amp; Candlestick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braque"/>
          <p:cNvPicPr/>
          <p:nvPr/>
        </p:nvPicPr>
        <p:blipFill>
          <a:blip r:embed="rId1">
            <a:lum contrast="6000"/>
          </a:blip>
          <a:srcRect l="4288" t="4587" r="4288" b="3256"/>
          <a:stretch/>
        </p:blipFill>
        <p:spPr>
          <a:xfrm>
            <a:off x="533520" y="1371600"/>
            <a:ext cx="408132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Rectangle 6"/>
          <p:cNvSpPr/>
          <p:nvPr/>
        </p:nvSpPr>
        <p:spPr>
          <a:xfrm>
            <a:off x="5486400" y="1828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UB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952880" y="2611440"/>
            <a:ext cx="3886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ubject matter is broken down, analyzed, and reassembled in abstrac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zann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 artist should treat nature in terms of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e cylinder, the sphere, and the c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5800" y="2286000"/>
            <a:ext cx="3581280" cy="29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oman with a Guitar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raque"/>
          <p:cNvPicPr/>
          <p:nvPr/>
        </p:nvPicPr>
        <p:blipFill>
          <a:blip r:embed="rId1"/>
          <a:stretch/>
        </p:blipFill>
        <p:spPr>
          <a:xfrm>
            <a:off x="4952880" y="228600"/>
            <a:ext cx="3691080" cy="647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30492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s Braqu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till Life: LeJeur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29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Still-Life, Le Jour"/>
          <p:cNvPicPr/>
          <p:nvPr/>
        </p:nvPicPr>
        <p:blipFill>
          <a:blip r:embed="rId1"/>
          <a:stretch/>
        </p:blipFill>
        <p:spPr>
          <a:xfrm>
            <a:off x="1257480" y="1247760"/>
            <a:ext cx="6667200" cy="515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2280" y="152280"/>
            <a:ext cx="838224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blo Picasso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Les Demoiselles d’Avignon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0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Les Demoiselles d'Avign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914400"/>
            <a:ext cx="540360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icasso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tudio with Plaster Head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2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picasso19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9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562720" y="2041560"/>
            <a:ext cx="3352680" cy="243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blo Picass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oman with a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Flower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3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Woman with a Flower"/>
          <p:cNvPicPr/>
          <p:nvPr/>
        </p:nvPicPr>
        <p:blipFill>
          <a:blip r:embed="rId1"/>
          <a:stretch/>
        </p:blipFill>
        <p:spPr>
          <a:xfrm>
            <a:off x="304920" y="304920"/>
            <a:ext cx="494172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5228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ul Kle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Red &amp; White Domes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1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omes"/>
          <p:cNvPicPr/>
          <p:nvPr/>
        </p:nvPicPr>
        <p:blipFill>
          <a:blip r:embed="rId1"/>
          <a:srcRect l="4328" t="2753" r="1742" b="2728"/>
          <a:stretch/>
        </p:blipFill>
        <p:spPr>
          <a:xfrm>
            <a:off x="2057400" y="914400"/>
            <a:ext cx="5168880" cy="548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21276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Paul Klee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enecio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2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Paul Klee. Senecio."/>
          <p:cNvPicPr/>
          <p:nvPr/>
        </p:nvPicPr>
        <p:blipFill>
          <a:blip r:embed="rId1"/>
          <a:stretch/>
        </p:blipFill>
        <p:spPr>
          <a:xfrm>
            <a:off x="2133720" y="914400"/>
            <a:ext cx="5027400" cy="556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89080"/>
            <a:ext cx="8991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be0e3"/>
                </a:solidFill>
                <a:latin typeface="Exotc350 Bd BT"/>
              </a:rPr>
              <a:t>Themes in Early Modern 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905120" y="1693800"/>
            <a:ext cx="594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certainty/insecurity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illusionment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bconsciou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vert sexuality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olence &amp; sav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57200"/>
            <a:ext cx="358164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rey Day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eorge Grosz. Grey Day."/>
          <p:cNvPicPr/>
          <p:nvPr/>
        </p:nvPicPr>
        <p:blipFill>
          <a:blip r:embed="rId1"/>
          <a:stretch/>
        </p:blipFill>
        <p:spPr>
          <a:xfrm>
            <a:off x="4343400" y="304920"/>
            <a:ext cx="432432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838080" y="2971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3657600"/>
            <a:ext cx="3886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idiculed contemporary culture &amp; traditional art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ollapse during WW I of social and mora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hil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34120" y="685800"/>
            <a:ext cx="3352680" cy="554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Daum Marries Her Pedantic Automaton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eorge in May, 1920, John Heartfield is Very Glad of II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9-192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George Grosz. Daum Marries Her Pedantic Automaton George in May 1920, John Heartfield is Very Glad of It."/>
          <p:cNvPicPr/>
          <p:nvPr/>
        </p:nvPicPr>
        <p:blipFill>
          <a:blip r:embed="rId1"/>
          <a:stretch/>
        </p:blipFill>
        <p:spPr>
          <a:xfrm>
            <a:off x="352440" y="304920"/>
            <a:ext cx="437184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981080"/>
            <a:ext cx="3581280" cy="29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eorge Gros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Pillars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f Society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George Grosz. The Pillars of Society."/>
          <p:cNvPicPr/>
          <p:nvPr/>
        </p:nvPicPr>
        <p:blipFill>
          <a:blip r:embed="rId1"/>
          <a:stretch/>
        </p:blipFill>
        <p:spPr>
          <a:xfrm>
            <a:off x="4876920" y="228600"/>
            <a:ext cx="339408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Raoul Hausmann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ABCD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24-2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3I00468"/>
          <p:cNvPicPr/>
          <p:nvPr/>
        </p:nvPicPr>
        <p:blipFill>
          <a:blip r:embed="rId1"/>
          <a:stretch/>
        </p:blipFill>
        <p:spPr>
          <a:xfrm>
            <a:off x="2819520" y="1143000"/>
            <a:ext cx="3676680" cy="53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Marcel Duchamp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Fountain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dchmp_fntn_low"/>
          <p:cNvPicPr/>
          <p:nvPr/>
        </p:nvPicPr>
        <p:blipFill>
          <a:blip r:embed="rId1"/>
          <a:stretch/>
        </p:blipFill>
        <p:spPr>
          <a:xfrm>
            <a:off x="2666880" y="1143000"/>
            <a:ext cx="3934080" cy="526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2286000"/>
            <a:ext cx="3352680" cy="347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Marcel Duchamp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Nude Descending a Staircase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1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nude_no2"/>
          <p:cNvPicPr/>
          <p:nvPr/>
        </p:nvPicPr>
        <p:blipFill>
          <a:blip r:embed="rId1"/>
          <a:stretch/>
        </p:blipFill>
        <p:spPr>
          <a:xfrm>
            <a:off x="4648320" y="228600"/>
            <a:ext cx="3862440" cy="637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52280" y="152280"/>
            <a:ext cx="899172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Soft Construction with Boiled Beans (Premonition of Civil War),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19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LO_1_td21dali1_207706_0221"/>
          <p:cNvPicPr/>
          <p:nvPr/>
        </p:nvPicPr>
        <p:blipFill>
          <a:blip r:embed="rId1"/>
          <a:stretch/>
        </p:blipFill>
        <p:spPr>
          <a:xfrm>
            <a:off x="304920" y="1676520"/>
            <a:ext cx="45720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3" name="Rectangle 5"/>
          <p:cNvSpPr/>
          <p:nvPr/>
        </p:nvSpPr>
        <p:spPr>
          <a:xfrm>
            <a:off x="5791320" y="1690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rre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5520" y="2286000"/>
            <a:ext cx="3886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te 1920s-194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me from the nihilistic genre of 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fluenced by Feud’s theories on psychoanalysis and the subcons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using &amp; startling images like those in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Persistence of Memory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3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The_Persistence_of_Memory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514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0880" y="152280"/>
            <a:ext cx="84582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Apparition of the Face and Fruit Dish on a Beach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3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ali-1938---Apparition-of-F"/>
          <p:cNvPicPr/>
          <p:nvPr/>
        </p:nvPicPr>
        <p:blipFill>
          <a:blip r:embed="rId1"/>
          <a:srcRect l="0" t="0" r="0" b="4668"/>
          <a:stretch/>
        </p:blipFill>
        <p:spPr>
          <a:xfrm>
            <a:off x="1295280" y="1371600"/>
            <a:ext cx="6629400" cy="515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152280"/>
            <a:ext cx="84582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Salvador Dali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Geopoliticus Child Watching the Birth of a New Man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4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Dali-1943---Geopoliticus-Ch"/>
          <p:cNvPicPr/>
          <p:nvPr/>
        </p:nvPicPr>
        <p:blipFill>
          <a:blip r:embed="rId1"/>
          <a:srcRect l="0" t="0" r="0" b="4000"/>
          <a:stretch/>
        </p:blipFill>
        <p:spPr>
          <a:xfrm>
            <a:off x="1523880" y="1357200"/>
            <a:ext cx="6096240" cy="52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21276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Edvard Munch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Scream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89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The Scream"/>
          <p:cNvPicPr/>
          <p:nvPr/>
        </p:nvPicPr>
        <p:blipFill>
          <a:blip r:embed="rId1">
            <a:lum contrast="6000"/>
          </a:blip>
          <a:srcRect l="1785" t="0" r="1723" b="0"/>
          <a:stretch/>
        </p:blipFill>
        <p:spPr>
          <a:xfrm>
            <a:off x="457200" y="928800"/>
            <a:ext cx="4173480" cy="57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" name="Rectangle 4"/>
          <p:cNvSpPr/>
          <p:nvPr/>
        </p:nvSpPr>
        <p:spPr>
          <a:xfrm>
            <a:off x="5181480" y="2224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press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029200" y="297036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bright colors to express a particular e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lter Gropius:  Bauhaus Building (192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20_Dessau%20Bauhaus"/>
          <p:cNvPicPr/>
          <p:nvPr/>
        </p:nvPicPr>
        <p:blipFill>
          <a:blip r:embed="rId1"/>
          <a:srcRect l="0" t="0" r="0" b="6382"/>
          <a:stretch/>
        </p:blipFill>
        <p:spPr>
          <a:xfrm>
            <a:off x="3886200" y="1143000"/>
            <a:ext cx="4800600" cy="337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533520" y="1690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u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243828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utopian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ed on the ideal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simplified for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unado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al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belief that the machine economy could deliver elegantly designed items for the m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d techniques &amp; materials employed especially in industrial fabrication &amp; manufactur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teel, concrete, chrome,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8908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lter Gropius:  Lincoln, MA house (193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coln-v"/>
          <p:cNvPicPr/>
          <p:nvPr/>
        </p:nvPicPr>
        <p:blipFill>
          <a:blip r:embed="rId1"/>
          <a:stretch/>
        </p:blipFill>
        <p:spPr>
          <a:xfrm>
            <a:off x="914400" y="1143000"/>
            <a:ext cx="7620120" cy="511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2280" y="22860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Franz Marc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Animal Destinies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1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800px-Fate-anima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990720"/>
            <a:ext cx="7620120" cy="560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136440"/>
            <a:ext cx="8991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Wassily Kandinsky: 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On White II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(1923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493px-Kandinsky_wh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8480" y="847800"/>
            <a:ext cx="4695840" cy="570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14400" y="685800"/>
            <a:ext cx="342900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br>
              <a:rPr sz="3400"/>
            </a:b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Judith I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  (190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440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ess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udith I"/>
          <p:cNvPicPr/>
          <p:nvPr/>
        </p:nvPicPr>
        <p:blipFill>
          <a:blip r:embed="rId1"/>
          <a:stretch/>
        </p:blipFill>
        <p:spPr>
          <a:xfrm>
            <a:off x="4975200" y="228600"/>
            <a:ext cx="3102120" cy="640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685800" y="3524400"/>
            <a:ext cx="388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rupt the conservative values of Viennese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essed with the 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 is a sexual being, leaning toward des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105520" y="2346480"/>
            <a:ext cx="327636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Wrogie sily </a:t>
            </a:r>
            <a:br>
              <a:rPr sz="3400"/>
            </a:b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gustav_klimt_wrogie_sily_1902"/>
          <p:cNvPicPr/>
          <p:nvPr/>
        </p:nvPicPr>
        <p:blipFill>
          <a:blip r:embed="rId1"/>
          <a:srcRect l="0" t="0" r="1542" b="3235"/>
          <a:stretch/>
        </p:blipFill>
        <p:spPr>
          <a:xfrm>
            <a:off x="914400" y="228600"/>
            <a:ext cx="3614760" cy="647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The Kiss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7-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he Kiss"/>
          <p:cNvPicPr/>
          <p:nvPr/>
        </p:nvPicPr>
        <p:blipFill>
          <a:blip r:embed="rId1"/>
          <a:stretch/>
        </p:blipFill>
        <p:spPr>
          <a:xfrm>
            <a:off x="2133720" y="990720"/>
            <a:ext cx="4997160" cy="5610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228600"/>
            <a:ext cx="86108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Gustav Klimt: </a:t>
            </a:r>
            <a:r>
              <a:rPr b="0" i="1" lang="en-US" sz="3400" spc="-1" strike="noStrike">
                <a:solidFill>
                  <a:srgbClr val="bbe0e3"/>
                </a:solidFill>
                <a:latin typeface="Exotc350 Bd BT"/>
              </a:rPr>
              <a:t>Danae  </a:t>
            </a:r>
            <a:r>
              <a:rPr b="0" lang="en-US" sz="3400" spc="-1" strike="noStrike">
                <a:solidFill>
                  <a:srgbClr val="bbe0e3"/>
                </a:solidFill>
                <a:latin typeface="Exotc350 Bd BT"/>
              </a:rPr>
              <a:t>(1907-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Danae"/>
          <p:cNvPicPr/>
          <p:nvPr/>
        </p:nvPicPr>
        <p:blipFill>
          <a:blip r:embed="rId1"/>
          <a:stretch/>
        </p:blipFill>
        <p:spPr>
          <a:xfrm>
            <a:off x="1752480" y="990720"/>
            <a:ext cx="5791320" cy="554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4:57:46Z</dcterms:created>
  <dc:creator>Ms. Susan M. Pojer</dc:creator>
  <dc:description/>
  <dc:language>en-US</dc:language>
  <cp:lastModifiedBy>admin</cp:lastModifiedBy>
  <dcterms:modified xsi:type="dcterms:W3CDTF">2013-04-12T12:42:53Z</dcterms:modified>
  <cp:revision>22</cp:revision>
  <dc:subject/>
  <dc:title>Early Modern Art</dc:title>
</cp:coreProperties>
</file>